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D973-5E22-4167-A7B4-CE136D888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0B62-7509-4EE0-9CCA-C67492368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8868-ADC9-41AE-962D-5EBCBA209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A684-8233-4270-A8DC-1FFBD9A31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3884E-5BB8-4368-ADDA-DE88C0294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A5962-5E52-4C0C-918A-7FB717DBF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18CBB-6E1D-4A29-8185-4AC9FD4F4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181C4-9470-46D3-AC9A-3E629D24F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BC06F-CD74-4EAB-8062-4CB872013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0F688-690C-4FE0-9D62-03A8F866D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4748E-5823-4DF9-A0B5-B9839E22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B4CB-A9A3-4A05-888A-130ACC9B2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D2CFB-C51A-49D8-BDC9-20AD5B41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68258-34B8-4B37-89E9-B60FE3FF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50DFB-018A-440B-BBDC-7F6A7C7C0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4B37D-6D39-42FD-B49E-AE18407EF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763EB-9C04-41AF-BB87-966992A67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3937-E476-4210-8D32-94DB45DFC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F81F-C935-42E9-9942-938CD30E7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172B-2734-43A1-91CA-BE2C6C266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9863-5048-4AF8-B6EF-BD6FEFCC7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A206-4D03-492D-9668-E07AA74B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25A3-E0CE-4065-8333-8561D25B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13AB-770A-4C1B-96E8-E65C7CA1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6A99E-DDB4-4BA8-A00E-DAC9532D6FD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BC713-6485-41F3-88DA-BF74260B23A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765000"/>
            <a:ext cx="7273800" cy="16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МИНИСТЕРСТВО СПОРТА РОССИЙСКОЙ ФЕДЕРАЦИИ</a:t>
            </a:r>
            <a:br>
              <a:rPr sz="1400"/>
            </a:b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ВСЕРОССИЙСКАЯ ФЕДЕРАЦИЯ ЛЕГКОЙ АТЛЕТИКИ </a:t>
            </a:r>
            <a:br>
              <a:rPr sz="1400"/>
            </a:b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МИНИСТЕРСТВО ФИЗИЧЕСКОЙ КУЛЬТУРЫ И СПОРТА </a:t>
            </a:r>
            <a:br>
              <a:rPr sz="1400"/>
            </a:b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КРАСНОДАРСКОГО КРАЯ </a:t>
            </a:r>
            <a:br>
              <a:rPr sz="1400"/>
            </a:b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ФЕДЕРАЦИЯ ЛЕГКОЙ АТЛЕТИКИ КРАСНОДАРСКОГО КРАЯ  </a:t>
            </a:r>
            <a:br>
              <a:rPr sz="1400"/>
            </a:br>
            <a:endParaRPr b="1" lang="en-US" sz="1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50560" y="3049560"/>
            <a:ext cx="7057800" cy="35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СЕРОССИЙСКИЕ СОРЕВНОВАНИЯ СРЕДИ УОР, СДЮШОР И ДЮСШ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(ЮНИОРЫ И ЮНИОРКИ ДО 20 ЛЕ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5-17.05.2013 год.                                  г. Краснодар ст. «КУБАН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754380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СЕРОССИЙСКИЕ СОРЕВНОВАНИЯ СРЕДИ УОР, СДЮШОР И ДЮСШ,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(ЮНИОРЫ И ЮНИОРКИ ДО 20 ЛЕТ)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68360" y="1971720"/>
          <a:ext cx="7931160" cy="3419280"/>
        </p:xfrm>
        <a:graphic>
          <a:graphicData uri="http://schemas.openxmlformats.org/drawingml/2006/table">
            <a:tbl>
              <a:tblPr/>
              <a:tblGrid>
                <a:gridCol w="4156200"/>
                <a:gridCol w="2050920"/>
                <a:gridCol w="1724040"/>
              </a:tblGrid>
              <a:tr h="55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 соревнований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едатель мандатной комисс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пак В.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 Моск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. делег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убина Н.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 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удья соревнов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китин А.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 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екретарь соревнов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олева Н.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 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бе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енко М.Ф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 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прыжк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ошин Л.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К 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мета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ницын А.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 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главного судьи по оборудова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тков А.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К 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главного судьи по информации церемониал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дрявцева В.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 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главного судьи по кадр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ова О.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К 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05:41:56Z</dcterms:created>
  <dc:creator>Wl</dc:creator>
  <dc:description/>
  <dc:language>en-US</dc:language>
  <cp:lastModifiedBy>SONY</cp:lastModifiedBy>
  <cp:lastPrinted>2013-05-16T15:21:02Z</cp:lastPrinted>
  <dcterms:modified xsi:type="dcterms:W3CDTF">2013-05-16T16:28:13Z</dcterms:modified>
  <cp:revision>19</cp:revision>
  <dc:subject/>
  <dc:title>ДЕПАРТАМЕНТ ПО ФИЗИЧЕСКОЙ КУЛЬТУРЕ И СПОРТУ  КРАСНОДАРСКОГО КРАЯ ФЕДЕРАЦИЯ ЛЕГКОЙ АТЛЕТИКИ КРАСНОДАРСКОГО КРАЯ КУБАНСКИЙ ГОСУДАРСТВЕННЫЙ УНИВЕРСИТЕТ ФИЗИЧЕСКОЙ КУЛЬТУРЫ, СПОРТА И ТУРИЗМА КАФЕДРА ТЕОРИИ И МЕТОДИКИ ЛЕГКОЙ АТЛЕТИКИ   СПОРТИВНЫЙ КЛУБ  КГУФКС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